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064-5515-4A2F-9AC3-CC43AD05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FF9-913A-48A0-988A-E13E2ABC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D679-67D4-4BED-B883-6508E275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E18-4673-4B3A-9E99-43826BE0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739-FB09-46DC-8094-6151AFEA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0991-7CD2-4968-8767-4E9FA091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3D5-4FCA-4E98-8BA9-D8E54B2E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687-A86A-4061-917B-76F4B0F7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D08-5D9C-496D-8F39-F57E9434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C62-54D8-4995-885B-D5169DDE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D4AC-C3B2-41CE-AF35-E7412153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AAA2-6F66-4911-83E1-5FE00DE6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F5B3F-E029-4F6B-A0B1-0DF41AA14E7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Niveles y Fluj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os flujos de entrada y salida rara vez están balance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Producción de petroleo = Consu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Stock de productos = dema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Recibo del sueldo = gasto del Dine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or eso existen las reservas, Entrada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 Sal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Tan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Bodeg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Pensamiento Sistémic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Ver el mundo como una colección de reservas junto con sus mecanismos de regulación de entrada y salida de fluj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O lo que es equiva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Ver el mundo como una colección de </a:t>
            </a: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procesos de retroali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Reservas, Flujos y Retroaliment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uando una reserva crece, decrece o es es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uy seguramente hay un mecanismo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trabaj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i hay un comportamiento que persiste  en el tiempo, hay un mecanismo que está creando este comportamient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El mecanismo es un  Bucle de retroali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: Cuenta Bancar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52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Estado de cuenta </a:t>
            </a:r>
            <a:r>
              <a:rPr b="0" lang="es-CO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  Reser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Si es baja </a:t>
            </a:r>
            <a:r>
              <a:rPr b="0" lang="es-CO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 Consigo más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alta</a:t>
            </a:r>
            <a:r>
              <a:rPr b="0" lang="es-CO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 Trabajo m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Dos maneras de estabiliz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Inflow </a:t>
            </a:r>
            <a:r>
              <a:rPr b="0" lang="es-CO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Conseguir más d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Outflow </a:t>
            </a:r>
            <a:r>
              <a:rPr b="0" lang="es-CO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Gastar m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0000" y="2843280"/>
            <a:ext cx="49244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¿Pregunta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¿Qué decisión humana ocurre sin un bucle de retroaliment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¿Qué decisión es realizada sin tener en cuenta información del nivel de la reserva que involuc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espuestas comu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Enamo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Cometer Suici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¿En estos casos no hay retroaliment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Regla úti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l tiempo que toma a una reserva doblar su cantidad, es aprox igual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70/ (rata de crecimi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regunta: $100 en un banco al 7%, en cuanto tiempo tengo $2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espuesta:  70/ 7 = 10 año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iempre que observe que A causa B, piense en como B puede a su vez afectar a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i el crecimiento de población produce pobreza, cómo la pobreza puede producir crecimi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etroalimentación induce a la idea de que un sistema puede causar su propio comportamiento ( no culpar a los otr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regunta : ¿Quién es el culp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Nueva Pregunta: ¿Cuál es el siste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s de Fluj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519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Nacimientos, mue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ompras, v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recimiento, deca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Depósitos, reti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xitos, fraca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Una reserva es la memoria presente de la historia de los cambios de flujo a través de un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1: Mina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Un depósito de mineral es una reser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De ella sale un flujo  (Producción de la m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l flujo de entrada toma siglos en produci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800360" y="4140360"/>
            <a:ext cx="561636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2  Agua en una repres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31640" y="2700360"/>
            <a:ext cx="907416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3 : Madera en un Bosqu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3280" y="1908000"/>
            <a:ext cx="9145440" cy="532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Agua en una bañera 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Nivel de agua cuando se quita el tap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60360" y="1763640"/>
            <a:ext cx="900108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Agua en una bañera 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226656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bre el tapón y luego se abre el gri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9280" y="1979640"/>
            <a:ext cx="906912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34920" y="2200320"/>
            <a:ext cx="9069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19280" y="1908000"/>
            <a:ext cx="457524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ás fácil enfocarse en reservas que en flu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ás fácil flujos de entrada que de sal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lenar una bañe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Aumentando el flujo del gri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Disminuyendo el tamaño del táp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Fuerza de trabajo en una empre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Más trabaj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Reduciendo los desp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Una reserva toma tiempo en camb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os flujos toman tiempo en flu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eservas cambian lent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Vaciar una bañ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Crecimiento de una pob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Madera en un bo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Recuperar la capa de oz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9:48:36Z</dcterms:created>
  <dc:creator>alf </dc:creator>
  <dc:description/>
  <dc:language>en-US</dc:language>
  <cp:lastModifiedBy>alf </cp:lastModifiedBy>
  <dcterms:modified xsi:type="dcterms:W3CDTF">2012-03-12T19:49:26Z</dcterms:modified>
  <cp:revision>2</cp:revision>
  <dc:subject/>
  <dc:title/>
</cp:coreProperties>
</file>